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2C6-E4A9-4A50-8D7B-9398086E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F5A-41CA-4BC4-B04F-2B4FAF0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1E9-1803-480D-AB06-052B526E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CD5-FBE3-4454-8758-229D5358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88EA-93D6-4DFE-9BF8-FFCE6273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2E61-0DEE-4BC6-AE23-EFC882A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9B0-CE84-462B-A2D1-19D9C9A2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787-9A62-46A1-AAC6-C9BDA8F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D753-A809-4706-AA9D-3CEC954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56A-27F0-4C19-8D93-74F79E4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CB5-6B64-41BA-8DF4-F64FBBC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C8E-FDB6-4811-9FC9-449AE1D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F676-BC07-409E-92D5-71E4652C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41AD-FBB6-43F1-9FBC-FBC14A7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0DA-2008-472B-A8A3-1BDF9997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026-2504-40FF-A296-10E83764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151-A253-4F74-9D8E-4A81BF47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33F-FE8E-475A-8F25-843C503C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22C-03F6-43D3-BA45-1EAB777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297-AF44-4C49-9E37-E264935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7EF-912B-4226-8E77-4CAAAF9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A2E-B37E-472F-8037-377622E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877-D2DA-41F6-B186-89FC78E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49F-52D4-4C0E-BD8E-B0DC1F2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0CC-14D8-4AC9-B647-E0622BEF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6E71-0814-4984-93F2-2CE2FA73D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quation Exam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24080" y="2128680"/>
          <a:ext cx="522432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128680"/>
                    <a:ext cx="522432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076480" y="2070000"/>
          <a:ext cx="552132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2070000"/>
                    <a:ext cx="5521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92200" y="1981080"/>
          <a:ext cx="848988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81080"/>
                    <a:ext cx="84898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2133720"/>
          <a:ext cx="552132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55213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981080"/>
          <a:ext cx="74548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45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2760" y="1981080"/>
          <a:ext cx="675324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981080"/>
                    <a:ext cx="67532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19280" y="1806480"/>
          <a:ext cx="754200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806480"/>
                    <a:ext cx="75420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31800" y="1806480"/>
          <a:ext cx="771696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806480"/>
                    <a:ext cx="771696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1981080"/>
          <a:ext cx="861048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63400" y="1981080"/>
          <a:ext cx="85503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981080"/>
                    <a:ext cx="85503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22440" y="1981080"/>
          <a:ext cx="843120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981080"/>
                    <a:ext cx="84312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66680" y="1981080"/>
          <a:ext cx="754092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09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2:14:56Z</dcterms:created>
  <dc:creator>Parkland High School</dc:creator>
  <dc:description/>
  <dc:language>en-US</dc:language>
  <cp:lastModifiedBy>Parkland High School</cp:lastModifiedBy>
  <dcterms:modified xsi:type="dcterms:W3CDTF">2010-09-21T12:23:43Z</dcterms:modified>
  <cp:revision>2</cp:revision>
  <dc:subject/>
  <dc:title>Equations Examples</dc:title>
</cp:coreProperties>
</file>